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9F94-3D85-4518-A308-7F473124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21FF-5132-415C-B8D8-2435638F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3F6E-A240-4F57-B62B-16B18E17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EC9F-3E57-4617-BEFD-4EC98390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23F0-3D17-4628-A845-9C76A2A2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173E-5549-4366-BB8C-E30D4455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EA1A-AFE6-46AE-89A5-599D97DB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961F-DE9D-4D22-B9BB-31213660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0393-4E0F-499C-A660-FB4120A7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1786-12EF-4E75-A706-D350324F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D330-BBF6-4EEF-855D-861CA942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66E2-5E17-4BEF-A6A6-67813FE2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B32A-B469-4BFE-98D5-5640F48E0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8305560" cy="495288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Revision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 Verb / Weak Sent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un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onger Verb / Stronger Sent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u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the sk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#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ylor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miling at her nie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I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going to the party on Frida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t to ANY paper that has bee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turned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ghlight any “weak” verbs on your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nge just 1 of those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Switch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“weak” ver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or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“strong”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Definition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-seeing” the pap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aking steps to improve your pap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Main Goal of Revisio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o mov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your PAP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o a bet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PLACE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hen you write, you are a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TIS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fter your 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draft, ask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 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STY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ming through on this pie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1 Sentence Activity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dnesday: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rs. Geiman walked in the room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sat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rsday: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rs. Geiman walked lazily into the room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plopped down in her ch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ida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alented Mrs. Geiman breezed int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om 123 and plopped down in her ch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nd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esda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ere are 4 MAJOR ways you can TRANSFORM your ess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STAR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S = Substitu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 = Take things 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 = Ad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R - Rearran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SUBSTITU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verused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eak verbs with strong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eak Adjectives with strong ad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mmon nouns with Proper No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ad”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What are Weak Ver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4:31:28Z</dcterms:created>
  <dc:creator>BPS</dc:creator>
  <dc:description/>
  <dc:language>en-US</dc:language>
  <cp:lastModifiedBy>BPS</cp:lastModifiedBy>
  <dcterms:modified xsi:type="dcterms:W3CDTF">2009-10-13T13:38:41Z</dcterms:modified>
  <cp:revision>10</cp:revision>
  <dc:subject/>
  <dc:title>Revision </dc:title>
</cp:coreProperties>
</file>